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F829-DFA1-4CC3-BB95-3E0713148715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9ABC-333C-4D7E-98C8-E7F5982C0E88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B7E-F355-4E32-83EE-9A762900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9A5-C7F8-42ED-A303-BAC6C79D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A75-3FF1-4CF5-A5EC-1CE38809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515-F808-4F84-B83B-B84E9140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C58-1DBD-487D-BABB-5774D05A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9B3-583C-4FFE-828B-D4ABB904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DE0-C16C-4772-A3B5-62F474D2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70D-F080-4905-A5A5-791B00B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DE0-FC10-4C4E-BA32-B45C137E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239-A1DE-4A92-A217-EE89B0AE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820-3369-4EEE-8CF5-D172753F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55E-3242-4AC2-9895-2644A498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C90E-9301-45E0-9C1F-F22ADDF46C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163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20T11:53:47Z</dcterms:modified>
  <cp:revision>219</cp:revision>
  <dc:subject/>
  <dc:title>Urodjene srcane mane</dc:title>
</cp:coreProperties>
</file>